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8A1-204F-4E4F-99A9-9D79B973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A16-E7D8-4DB3-9A6E-84EE5D35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13F-C0B6-4841-95A9-4EAAFB85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D7D-0A8C-405D-9E8A-FA8F1518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76C-7E90-4490-B040-B151FBD0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F37-CC4A-4663-9348-3EC56C64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B2E-DD6E-486B-9291-45671BB9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49D-CF53-44DC-9ED2-F08B38FF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AB8-C80C-4DB2-B09C-2EEAC21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E5E-0444-4AAF-8850-9AAF68E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0DF-113E-4F64-8BA6-2591316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040-84E2-4C51-8515-43E91E4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5C10-8A8F-446E-9746-3A19C437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 use of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only thing I can think of is Shakespeare and how he tal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ing spoken a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eems to be referred to as 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ggle between opposing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- Struggle within th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-Struggle between character and outside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struggle within Henry and his fear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tails of real life. Stressed actual events instead of imag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A real actual war it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d people as helpless victoms of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In the artic surrounded by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time period of a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you can tell the time period because it’s a based around a war that we are aw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 lives by wits and skills consistently placed in in dangerous sit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Main character struggles to survive in a snow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or represents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y Dick”- The whale symbolizes ev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The archetype is just like any other wa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 in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ry and artistic movement, focused on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n was romantic with his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eval, wild, or myste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weird story about how he manages to surv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being held c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a Fire”- The main character isnt being held by a person physically but lost in a snow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or figurative launguage that creates images. Uses the 5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Badge of Courage”- very descriptive about the blood and gore in the war sc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8:44:24Z</dcterms:created>
  <dc:creator>dcsuser</dc:creator>
  <dc:description/>
  <dc:language>en-US</dc:language>
  <cp:lastModifiedBy>dcsuser</cp:lastModifiedBy>
  <dcterms:modified xsi:type="dcterms:W3CDTF">2012-01-04T19:16:36Z</dcterms:modified>
  <cp:revision>2</cp:revision>
  <dc:subject/>
  <dc:title>Adventure Vocabulary</dc:title>
</cp:coreProperties>
</file>