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FDA6C-1065-4842-8D3E-D79ACC1D1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08538-F439-4D92-8072-4B07EE43F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5BF8D-98D6-4D2C-8A28-21B3442FC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D58AA-CFF5-4CD1-B93A-D3A8CD148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059CB-2677-4563-AA1B-F61B5D044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76BA7-98F3-4D75-AAEE-B4236FD26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F1F2A-7531-4E98-BB47-9E36179EA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733CE-9E95-49B0-B48D-07D830DEB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25C14-6D14-48F0-8812-06B0D6AEC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40371-E96F-450D-83DF-F47E9C794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F647E-D794-4554-9AA4-EA733E152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2F64C-6BF0-485B-95D1-26EDD458A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3226B-B18E-4252-9318-456191404E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venture Vocabul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rew Gr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rs use of langua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The only thing I can think of is Shakespeare and how he talk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taph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thing spoken as something el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by Dick”- The whale seems to be referred to as evi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li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ggle between opposing for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nal- Struggle within the charac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ternal-Struggle between character and outside for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 Badge of Courage”- struggle within Henry and his fear of w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al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details of real life. Stressed actual events instead of image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 badge of courage”- A real actual war its abou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tural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terary mov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ewed people as helpless victoms of nat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Build a Fire”- In the artic surrounded by nat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storical Detai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ails that show time period of a wo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 Badge of Courage”- you can tell the time period because it’s a based around a war that we are aware o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ventur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tagonist  lives by wits and skills consistently placed in in dangerous situation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Build a Fire”- Main character struggles to survive in a snowstor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ymb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nds for or represents something el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by Dick”- The whale symbolizes evil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chetyp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tterns in literature found around the worl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 Badge of Courage”-The archetype is just like any other war sto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pigrap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ote at the beginning of a chapter in a boo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mantic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terary and artistic movement, focused on imagin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build a fire”- the man was romantic with his do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ilderness Goth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dieval, wild, or mysteriou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build a fire”- weird story about how he manages to surviv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ptivity Narra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being held capti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Build a Fire”- The main character isnt being held by a person physically but lost in a snow stor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ager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criptive or figurative launguage that creates images. Uses the 5 sen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 Badge of Courage”- very descriptive about the blood and gore in the war scen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4T18:44:24Z</dcterms:created>
  <dc:creator>dcsuser</dc:creator>
  <dc:description/>
  <dc:language>en-US</dc:language>
  <cp:lastModifiedBy>dcsuser</cp:lastModifiedBy>
  <dcterms:modified xsi:type="dcterms:W3CDTF">2012-01-04T19:16:36Z</dcterms:modified>
  <cp:revision>2</cp:revision>
  <dc:subject/>
  <dc:title>Adventure Vocabulary</dc:title>
</cp:coreProperties>
</file>