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B376-3142-493F-8E09-D886AA847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48B4-3852-49E1-B6F9-75B9F6ECE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8232-965D-459C-81B3-53289C2C4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7CCE-221D-4330-B596-045299AF6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4C00-00CB-40C1-A237-D441C4B56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FC39-7A0F-4393-BC23-89B377CC8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2D77-3769-423B-AEC6-7BAF8C6D0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E7E4-FEC0-4FC0-A9C1-853580485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77FB-6246-4294-B1E4-1FE2493F1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2B84-1D21-47DF-8839-C6FB030BF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B338-77AA-4E3C-A274-CC258E089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E9C2-D9AA-4CBC-AB9E-436116D8A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6E088-D2E5-4053-B0AD-D316177D72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enture 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rew Gr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rs use of langu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The only thing I can think of is Shakespeare and how he tal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thing spoken as something el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by Dick”- The whale seems to be referred to as ev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li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ggle between opposing for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l- Struggle within the charac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rnal-Struggle between character and outside for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 Badge of Courage”- struggle within Henry and his fear of w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details of real life. Stressed actual events instead of imag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 badge of courage”- A real actual war its ab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ur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erary m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wed people as helpless victoms of na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Build a Fire”- In the artic surrounded by na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ical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ails that show time period of a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 Badge of Courage”- you can tell the time period because it’s a based around a war that we are aware o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entur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agonist  lives by wits and skills consistently placed in in dangerous situa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Build a Fire”- Main character struggles to survive in a snowst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mb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s for or represents something el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by Dick”- The whale symbolizes evi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chety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terns in literature found around the 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 Badge of Courage”-The archetype is just like any other war s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pi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ote at the beginning of a chapter in a boo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mantic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erary and artistic movement, focused on imagin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build a fire”- the man was romantic with his do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lderness Goth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eval, wild, or mysterio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build a fire”- weird story about how he manages to surviv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tivity Narra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being held capt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Build a Fire”- The main character isnt being held by a person physically but lost in a snow st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ager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ptive or figurative launguage that creates images. Uses the 5 sen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 Badge of Courage”- very descriptive about the blood and gore in the war sce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4T18:44:24Z</dcterms:created>
  <dc:creator>dcsuser</dc:creator>
  <dc:description/>
  <dc:language>en-US</dc:language>
  <cp:lastModifiedBy>dcsuser</cp:lastModifiedBy>
  <dcterms:modified xsi:type="dcterms:W3CDTF">2012-01-04T19:16:36Z</dcterms:modified>
  <cp:revision>2</cp:revision>
  <dc:subject/>
  <dc:title>Adventure Vocabulary</dc:title>
</cp:coreProperties>
</file>