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D65-D0F4-40B6-A338-52BB73D3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D51-BD47-4CCD-9942-006373F9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CD8-A505-4756-8058-24E1DEF7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787-0B4A-485E-8C21-BA550797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36D-44ED-4CB7-A053-7D3DB02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57C-4658-4B96-B1D0-40A47F9F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EA6-FDF4-4EBE-A817-25376FA5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F81-06CF-4941-9F4D-691A3C7D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403-811F-4157-884B-07F8EA2C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21A-34C4-4FAA-9576-7CB6CC3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93B-EAEA-4DC6-8C8F-6DEA8EE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CBE-8F04-42FA-B476-46E90766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B729-F6D9-46BD-A50B-2D9DEBBE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use of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only thing I can think of is Shakespeare and how he tal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ing spoken a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eems to be referred to as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ggle between opposing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- Struggle within th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-Struggle between character and outsid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struggle within Henry and his fear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tails of real life. Stressed actual events instead of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A real actual war it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people as helpless victom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In the artic surrounded by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time period of a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you can tell the time period because it’s a based around a war that we are aw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 lives by wits and skills consistently placed in in dangerous sit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Main character struggles to survive in a snow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or represent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ymbolizes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The archetype is just like any other wa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 in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and artistic movement, focused on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n was romantic with his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, wild, or myste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weird story about how he manages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being held c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in character isnt being held by a person physically but lost in a snow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or figurative launguage that creates images. Uses the 5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very descriptive about the blood and gore in the war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8:44:24Z</dcterms:created>
  <dc:creator>dcsuser</dc:creator>
  <dc:description/>
  <dc:language>en-US</dc:language>
  <cp:lastModifiedBy>dcsuser</cp:lastModifiedBy>
  <dcterms:modified xsi:type="dcterms:W3CDTF">2012-01-04T19:16:36Z</dcterms:modified>
  <cp:revision>2</cp:revision>
  <dc:subject/>
  <dc:title>Adventure Vocabulary</dc:title>
</cp:coreProperties>
</file>