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1A4-E413-4DDE-9801-CDE0094D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8A8-7332-467F-860D-785CB677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47F-5635-49E3-A56F-1DD3B44E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0716-8F1B-4D41-8B41-ED4A5057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9FD-AD85-4C26-BB49-B12EF8B2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FD6-3161-4150-A618-57B38866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3B7-3A1A-4EB3-99C2-572A3EE7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B041-A1D0-4ECD-A484-478F1530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4E9-5A1F-473C-8EA4-FC4CFC83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AE7-A2D1-4E6F-A546-9CB74440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83F-0E99-4132-ADB3-688C7C7C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9FA-65FE-4532-88C0-6DEE1FA9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686F-850D-4F84-BAE6-8A2B3EFCF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igitaljournal.com/blog/2528#ixzz1tdqeZIHK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11280" y="1101600"/>
            <a:ext cx="2989080" cy="3478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933720" cy="491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2087640" y="3200400"/>
            <a:ext cx="24858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started using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eph Pulitzer, a Hungary American newspaper publis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ublishe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. Louis Post Disp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York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as is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itzer first used the technique in the newspapers he acquired in the 1880s and became a leading national figure in the Democratic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as it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 Journalism or yellow press is a type of journalism that is made only to make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ne of the research is legitimate and the headlines are often exaggerated to increase s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was it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used in newspapers during the 18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lso used in the Spanish-American war by Pulitzer, some say he is the cause of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it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to sell the newspapers but also to make people, places, or things look bad in poli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care headlines in huge print, often of minor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vish use of pictures, or imaginary dra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use of faked interviews, misleading headlines, pseudo-science, and a parade of false learning from so-called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mphasis on full-color Sunday supplements, usually with comic strips (which is now normal in the U.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dramatic sympathy with the "underdog" against the system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more: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gitaljournal.com/blog/2528#ixzz1tdqeZIH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-Americ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itzer and Hearst are often accused as the cause of the United States' entry into the Spanish-American War because of or exaggerations of the terrible conditions in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llow Jour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is used today as a way to put down any journalism that treats news in an unprofessional or unethical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7:53:08Z</dcterms:created>
  <dc:creator>dcsuser</dc:creator>
  <dc:description/>
  <dc:language>en-US</dc:language>
  <cp:lastModifiedBy>dcsuser</cp:lastModifiedBy>
  <dcterms:modified xsi:type="dcterms:W3CDTF">2012-05-01T17:58:01Z</dcterms:modified>
  <cp:revision>6</cp:revision>
  <dc:subject/>
  <dc:title>Yellow Journalism</dc:title>
</cp:coreProperties>
</file>