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8CB9-B93B-4EC7-B8F9-0D25E3E27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B3FA-DAA0-4FE2-A42A-C4FCBF5E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409C-76FB-4399-A8A2-9772DD723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E85B-4D0D-473F-A81F-3A7D89A24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297F-974D-46FA-979C-B05D6971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BB68-AA94-4960-A8AB-46A04CF1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49EE-9BEB-4C28-94FF-9925CD12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4950-C4C0-4381-A521-5E63E0BD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E12D-2436-427D-845D-B7F1C9D8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FADE-7A21-4B2B-8D64-D8EAAC2F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972A-80C7-4655-830D-A23086B2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F4F2-276E-453A-A4F6-5A4E409E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E6AF-6BEE-450A-A435-8B6A05C5E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digitaljournal.com/blog/2528#ixzz1tdqeZIHK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llow Journ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rew G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llow Journalis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611280" y="1101600"/>
            <a:ext cx="2989080" cy="3478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2"/>
          <a:stretch/>
        </p:blipFill>
        <p:spPr>
          <a:xfrm>
            <a:off x="4800600" y="1447920"/>
            <a:ext cx="3933720" cy="4917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3"/>
          <a:stretch/>
        </p:blipFill>
        <p:spPr>
          <a:xfrm>
            <a:off x="2087640" y="3200400"/>
            <a:ext cx="248580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started using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eph Pulitzer, a Hungary American newspaper publis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published for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. Louis Post Dispat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w York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was is us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litzer first used the technique in the newspapers he acquired in the 1880s and became a leading national figure in the Democratic Pa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was it u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llow Journalism or yellow press is a type of journalism that is made only to make mon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ne of the research is legitimate and the headlines are often exaggerated to increase sa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was it u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used in newspapers during the 1800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also used in the Spanish-American war by Pulitzer, some say he is the cause of the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it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ly to sell the newspapers but also to make people, places, or things look bad in polit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care headlines in huge print, often of minor n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lavish use of pictures, or imaginary draw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use of faked interviews, misleading headlines, pseudo-science, and a parade of false learning from so-called exp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emphasis on full-color Sunday supplements, usually with comic strips (which is now normal in the U.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dramatic sympathy with the "underdog" against the system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more: 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igitaljournal.com/blog/2528#ixzz1tdqeZIHK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nish-Americ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litzer and Hearst are often accused as the cause of the United States' entry into the Spanish-American War because of or exaggerations of the terrible conditions in Cu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llow Journalism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ellow Journal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is used today as a way to put down any journalism that treats news in an unprofessional or unethical fash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7:53:08Z</dcterms:created>
  <dc:creator>dcsuser</dc:creator>
  <dc:description/>
  <dc:language>en-US</dc:language>
  <cp:lastModifiedBy>dcsuser</cp:lastModifiedBy>
  <dcterms:modified xsi:type="dcterms:W3CDTF">2012-05-01T17:58:01Z</dcterms:modified>
  <cp:revision>6</cp:revision>
  <dc:subject/>
  <dc:title>Yellow Journalism</dc:title>
</cp:coreProperties>
</file>