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79E2-5076-4D55-B571-D0C6991B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F9E-3DC5-4B2C-A105-D49DE1A6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63B-88A5-4614-82E5-493B6ACF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64F8-8E9C-4611-93F5-172A0AE7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4C6-A66D-4CD9-89F8-3BC2963A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EBE-980C-4D61-A2C9-16182210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4071-CA8A-437E-ABB3-861B0B58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86EF-0646-4387-9743-F170DC10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80B9-E5A0-446E-867F-E4F6F82F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0D2-F1AC-4B6C-B744-9EBAB4A2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C1D-2C13-4642-A6A4-4C47C59F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510-E09E-460A-8448-BAC2F93B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4D0E-7B57-4663-BF75-4862335E3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igitaljournal.com/blog/2528#ixzz1tdqeZIHK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Jour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Journal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11280" y="1101600"/>
            <a:ext cx="2989080" cy="3478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933720" cy="491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2087640" y="3200400"/>
            <a:ext cx="24858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started using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eph Pulitzer, a Hungary American newspaper publis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publishe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. Louis Post Disp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 York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as is 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itzer first used the technique in the newspapers he acquired in the 1880s and became a leading national figure in the Democratic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as it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 Journalism or yellow press is a type of journalism that is made only to make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ne of the research is legitimate and the headlines are often exaggerated to increase s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was it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used in newspapers during the 18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lso used in the Spanish-American war by Pulitzer, some say he is the cause of the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it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to sell the newspapers but also to make people, places, or things look bad in poli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care headlines in huge print, often of minor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avish use of pictures, or imaginary dra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use of faked interviews, misleading headlines, pseudo-science, and a parade of false learning from so-called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mphasis on full-color Sunday supplements, usually with comic strips (which is now normal in the U.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dramatic sympathy with the "underdog" against the system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more: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gitaljournal.com/blog/2528#ixzz1tdqeZIH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-Americ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itzer and Hearst are often accused as the cause of the United States' entry into the Spanish-American War because of or exaggerations of the terrible conditions in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Journalism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llow Journ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is used today as a way to put down any journalism that treats news in an unprofessional or unethical fash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7:53:08Z</dcterms:created>
  <dc:creator>dcsuser</dc:creator>
  <dc:description/>
  <dc:language>en-US</dc:language>
  <cp:lastModifiedBy>dcsuser</cp:lastModifiedBy>
  <dcterms:modified xsi:type="dcterms:W3CDTF">2012-05-01T17:58:01Z</dcterms:modified>
  <cp:revision>6</cp:revision>
  <dc:subject/>
  <dc:title>Yellow Journalism</dc:title>
</cp:coreProperties>
</file>