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7DD-D0BC-423C-B635-5CEBE263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F76-7921-4D54-B02D-68486FF0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4DA-E710-464F-8B7A-AAB2221C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AAF-A28F-4ED8-9B8E-537379A2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A36-335F-4196-85AE-0F158679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462-4638-4A3E-B438-EED3893F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904-8CC7-4045-936B-6B67D5E1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990-E293-4893-AA4A-5E76DE93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43E-80CD-4BC3-9325-EFDD9BAD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B3F-82E7-46B2-8808-AF3423EF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9FD-38F7-4083-A9FD-0B63CDEF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E26-40F2-4FD7-B169-40D1759B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7CEA-571E-43DB-9850-036EF2E08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igitaljournal.com/blog/2528#ixzz1tdqeZIHK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11280" y="1101600"/>
            <a:ext cx="2989080" cy="3478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933720" cy="491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2087640" y="3200400"/>
            <a:ext cx="24858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arted using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Pulitzer, a Hungary American newspaper publis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ublishe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. Louis Post Disp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York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as is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itzer first used the technique in the newspapers he acquired in the 1880s and became a leading national figure in the Democratic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as it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 Journalism or yellow press is a type of journalism that is made only to mak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ne of the research is legitimate and the headlines are often exaggerated to increase s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was it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used in newspapers during the 18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lso used in the Spanish-American war by Pulitzer, some say he is the cause of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it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to sell the newspapers but also to make people, places, or things look bad in poli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care headlines in huge print, often of minor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vish use of pictures, or imaginary dra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use of faked interviews, misleading headlines, pseudo-science, and a parade of false learning from so-called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mphasis on full-color Sunday supplements, usually with comic strips (which is now normal in the U.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ramatic sympathy with the "underdog" against the system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more: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gitaljournal.com/blog/2528#ixzz1tdqeZIH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-Americ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itzer and Hearst are often accused as the cause of the United States' entry into the Spanish-American War because of or exaggerations of the terrible conditions in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llow Jour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is used today as a way to put down any journalism that treats news in an unprofessional or unethical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7:53:08Z</dcterms:created>
  <dc:creator>dcsuser</dc:creator>
  <dc:description/>
  <dc:language>en-US</dc:language>
  <cp:lastModifiedBy>dcsuser</cp:lastModifiedBy>
  <dcterms:modified xsi:type="dcterms:W3CDTF">2012-05-01T17:58:01Z</dcterms:modified>
  <cp:revision>6</cp:revision>
  <dc:subject/>
  <dc:title>Yellow Journalism</dc:title>
</cp:coreProperties>
</file>