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B5D4-6BF8-42E9-913A-0BF0AD1D8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239A-7A85-4B73-9DF8-4FD35A94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90CC-A201-43BD-B86A-364741A61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6E4A-D876-473C-83AE-9E5BD4563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DF31-C365-4EA6-92F5-462D5B94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785E-053B-4FC1-9624-29FEC2A3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0B89-96BB-4BA1-A833-D9B97440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2338-2E77-4FC8-A2D5-5A525C98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556C-9FEC-4205-BE3C-D51C753A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D6DD-2A9E-4015-8D33-BDFC24BB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5EA8-022E-483F-B3D6-510086ED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93B1-AC8A-4571-91DE-C916F4A6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E8CA-03D2-475D-AB68-F0144BBCE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digitaljournal.com/blog/2528#ixzz1tdqeZIHK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llow Journ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ew G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llow Journalis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611280" y="1101600"/>
            <a:ext cx="2989080" cy="3478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4800600" y="1447920"/>
            <a:ext cx="3933720" cy="4917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3"/>
          <a:stretch/>
        </p:blipFill>
        <p:spPr>
          <a:xfrm>
            <a:off x="2087640" y="3200400"/>
            <a:ext cx="248580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started using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eph Pulitzer, a Hungary American newspaper publis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published for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. Louis Post Dispat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w York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was is us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itzer first used the technique in the newspapers he acquired in the 1880s and became a leading national figure in the Democratic Pa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was it 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llow Journalism or yellow press is a type of journalism that is made only to make mon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ne of the research is legitimate and the headlines are often exaggerated to increase sa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was it 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used in newspapers during the 180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also used in the Spanish-American war by Pulitzer, some say he is the cause of the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it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ly to sell the newspapers but also to make people, places, or things look bad in polit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care headlines in huge print, often of minor n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lavish use of pictures, or imaginary draw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use of faked interviews, misleading headlines, pseudo-science, and a parade of false learning from so-called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emphasis on full-color Sunday supplements, usually with comic strips (which is now normal in the U.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dramatic sympathy with the "underdog" against the system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more: 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igitaljournal.com/blog/2528#ixzz1tdqeZIHK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ish-Americ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itzer and Hearst are often accused as the cause of the United States' entry into the Spanish-American War because of or exaggerations of the terrible conditions in Cu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llow Journalism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ellow Journal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is used today as a way to put down any journalism that treats news in an unprofessional or unethical fash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7:53:08Z</dcterms:created>
  <dc:creator>dcsuser</dc:creator>
  <dc:description/>
  <dc:language>en-US</dc:language>
  <cp:lastModifiedBy>dcsuser</cp:lastModifiedBy>
  <dcterms:modified xsi:type="dcterms:W3CDTF">2012-05-01T17:58:01Z</dcterms:modified>
  <cp:revision>6</cp:revision>
  <dc:subject/>
  <dc:title>Yellow Journalism</dc:title>
</cp:coreProperties>
</file>