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0FF-B293-4371-83B2-34B2CF8A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E93-6653-4E2F-BB7F-414C1CBE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679-9648-47C4-AE0C-C5361D26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191-F654-4A45-A43B-6A2B6E34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283-124B-494D-8DE1-BDA4BF1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8C3-7470-4D37-9FA3-DAA7E733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CDA-5863-4305-AB07-0418E4B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D57-FF9A-4380-8504-7F9B0A1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BAB-AE2D-4B95-A6E0-7F41F74D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A87-9D33-4D4B-A38F-679AC86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68F-A154-4710-9219-9536C63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E3C-E972-49A2-ABA7-BC76BC0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DFCC-2D21-425D-BA47-AFEFDD15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gitaljournal.com/blog/2528#ixzz1tdqeZIHK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11280" y="1101600"/>
            <a:ext cx="2989080" cy="3478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933720" cy="491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2087640" y="3200400"/>
            <a:ext cx="2485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arted using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ulitzer, a Hungary American newspaper publis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ublishe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. Louis Post Dis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 York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as is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first used the technique in the newspapers he acquired in the 1880s and became a leading national figure in the Democratic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 Journalism or yellow press is a type of journalism that is made onl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or none of the research is legitimate and the headlines are often exaggerated to increase s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it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used in newspapers during the 18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lso used in the Spanish-American war by Pulitzer, some say he is the cause of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it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to sell the newspapers but also to make people, places, or things look bad in poli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are headlines in huge print, often of minor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avish use of pictures, or imaginary dra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se of faked interviews, misleading headlines, pseudo-science, and a parade of false learning from so-called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mphasis on full-color Sunday supplements, usually with comic strips (which is now normal in the U.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ramatic sympathy with the "underdog" against the syste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more: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igitaljournal.com/blog/2528#ixzz1tdqeZIH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-Americ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itzer and Hearst are often accused as the cause of the United States' entry into the Spanish-American War because of or exaggerations of the terrible conditions in Cu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llow Journalis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llow Jour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is used today as a way to put down any journalism that treats news in an unprofessional or unethical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3:08Z</dcterms:created>
  <dc:creator>dcsuser</dc:creator>
  <dc:description/>
  <dc:language>en-US</dc:language>
  <cp:lastModifiedBy>dcsuser</cp:lastModifiedBy>
  <dcterms:modified xsi:type="dcterms:W3CDTF">2012-05-01T17:58:01Z</dcterms:modified>
  <cp:revision>6</cp:revision>
  <dc:subject/>
  <dc:title>Yellow Journalism</dc:title>
</cp:coreProperties>
</file>